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A74-6624-4F70-A668-62BBF4B1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E7F-3A42-4478-9F00-AF1DDEFA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BB9-4DF9-429F-AFD3-45E26B62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3BF-0ACB-4F9B-BBA0-30C3CF3F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B45-E33E-4175-ABF6-B1AD1D18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C5C-41E0-4A3B-B125-44539E5C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766-2684-44B5-854F-0730EA1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DF2-8FE6-4998-94AD-D9B105C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59280" y="274680"/>
            <a:ext cx="5627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604-0AC1-4954-8021-002E346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D89-71B5-4CE0-96D6-96D49B3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5E7-A6E9-45CD-8D28-C8C4A318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88B-65F8-464B-96B3-0094B13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8d"/>
                </a:solidFill>
                <a:uFillTx/>
                <a:latin typeface="Trebuchet MS"/>
              </a:rPr>
              <a:t>Click to edit the title text forma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Clr>
                <a:srgbClr val="00808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3F16-E98D-4A15-8955-C62E1A31B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greendigitalcharter.eu" TargetMode="External"/><Relationship Id="rId3" Type="http://schemas.openxmlformats.org/officeDocument/2006/relationships/hyperlink" Target="http://www.greendigitalcharter.eu/" TargetMode="External"/><Relationship Id="rId4" Type="http://schemas.openxmlformats.org/officeDocument/2006/relationships/image" Target="../media/image2.png"/><Relationship Id="rId5" Type="http://schemas.openxmlformats.org/officeDocument/2006/relationships/hyperlink" Target="mailto:nikolaos.kontinakis@eurocities.eu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greendigitalcharter.eu/contacts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123920"/>
            <a:ext cx="74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4800" spc="-1" strike="noStrike">
                <a:solidFill>
                  <a:srgbClr val="004047"/>
                </a:solidFill>
                <a:latin typeface="Trebuchet MS"/>
              </a:rPr>
              <a:t>G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reen </a:t>
            </a:r>
            <a:r>
              <a:rPr b="1" lang="en-GB" sz="4800" spc="-1" strike="noStrike">
                <a:solidFill>
                  <a:srgbClr val="004047"/>
                </a:solidFill>
                <a:latin typeface="Trebuchet MS"/>
              </a:rPr>
              <a:t>D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igital </a:t>
            </a:r>
            <a:r>
              <a:rPr b="1" lang="en-GB" sz="4800" spc="-1" strike="noStrike">
                <a:solidFill>
                  <a:srgbClr val="004047"/>
                </a:solidFill>
                <a:latin typeface="Trebuchet MS"/>
              </a:rPr>
              <a:t>C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harter (</a:t>
            </a:r>
            <a:r>
              <a:rPr b="1" lang="en-GB" sz="4000" spc="-1" strike="noStrike">
                <a:solidFill>
                  <a:srgbClr val="00808c"/>
                </a:solidFill>
                <a:latin typeface="Trebuchet MS"/>
              </a:rPr>
              <a:t>GDC</a:t>
            </a:r>
            <a:r>
              <a:rPr b="1" lang="en-GB" sz="4000" spc="-1" strike="noStrike">
                <a:solidFill>
                  <a:srgbClr val="00808d"/>
                </a:solidFill>
                <a:latin typeface="Trebuchet MS"/>
              </a:rPr>
              <a:t>) 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&amp;</a:t>
            </a:r>
            <a:br>
              <a:rPr sz="3600"/>
            </a:b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the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N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etwork of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I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ntelligent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C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ities</a:t>
            </a:r>
            <a:br>
              <a:rPr sz="3600"/>
            </a:b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for </a:t>
            </a:r>
            <a:r>
              <a:rPr b="1" lang="en-GB" sz="4400" spc="-1" strike="noStrike">
                <a:solidFill>
                  <a:srgbClr val="004047"/>
                </a:solidFill>
                <a:latin typeface="Trebuchet MS"/>
              </a:rPr>
              <a:t>E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nergy efficiency (</a:t>
            </a:r>
            <a:r>
              <a:rPr b="1" lang="en-GB" sz="3600" spc="-1" strike="noStrike">
                <a:solidFill>
                  <a:srgbClr val="00808c"/>
                </a:solidFill>
                <a:latin typeface="Trebuchet MS"/>
              </a:rPr>
              <a:t>NiCE</a:t>
            </a:r>
            <a:r>
              <a:rPr b="1" lang="en-GB" sz="3600" spc="-1" strike="noStrike">
                <a:solidFill>
                  <a:srgbClr val="00808d"/>
                </a:solidFill>
                <a:latin typeface="Trebuchet MS"/>
              </a:rPr>
              <a:t>)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0" y="6381720"/>
            <a:ext cx="4390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Trebuchet MS"/>
              </a:rPr>
              <a:t>21 March 2014, DG CONNECT, Bru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1280" y="115920"/>
            <a:ext cx="640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 u="sng">
                <a:solidFill>
                  <a:srgbClr val="00808d"/>
                </a:solidFill>
                <a:uFillTx/>
                <a:latin typeface="Trebuchet MS"/>
              </a:rPr>
              <a:t>Why sign?</a:t>
            </a:r>
            <a:r>
              <a:rPr b="1" lang="en-GB" sz="34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595959"/>
                </a:solidFill>
                <a:uFillTx/>
                <a:latin typeface="Trebuchet MS"/>
              </a:rPr>
              <a:t>GDC fits cities’ agenda &amp; priorities</a:t>
            </a:r>
            <a:endParaRPr b="1" lang="en-US" sz="28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85" name="Rettangolo arrotondato 14"/>
          <p:cNvSpPr/>
          <p:nvPr/>
        </p:nvSpPr>
        <p:spPr>
          <a:xfrm rot="645000">
            <a:off x="5184720" y="1215720"/>
            <a:ext cx="2735280" cy="2200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15"/>
          <p:cNvSpPr/>
          <p:nvPr/>
        </p:nvSpPr>
        <p:spPr>
          <a:xfrm rot="645000">
            <a:off x="5370120" y="1330200"/>
            <a:ext cx="2376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logna - Helsin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arrotondato 16"/>
          <p:cNvSpPr/>
          <p:nvPr/>
        </p:nvSpPr>
        <p:spPr>
          <a:xfrm rot="855000">
            <a:off x="6161040" y="3517560"/>
            <a:ext cx="2736720" cy="2058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arrotondato 18"/>
          <p:cNvSpPr/>
          <p:nvPr/>
        </p:nvSpPr>
        <p:spPr>
          <a:xfrm>
            <a:off x="3389400" y="3068640"/>
            <a:ext cx="2736720" cy="2058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17"/>
          <p:cNvSpPr/>
          <p:nvPr/>
        </p:nvSpPr>
        <p:spPr>
          <a:xfrm rot="855000">
            <a:off x="6345000" y="3632040"/>
            <a:ext cx="2376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2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na -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sellaDiTesto 19"/>
          <p:cNvSpPr/>
          <p:nvPr/>
        </p:nvSpPr>
        <p:spPr>
          <a:xfrm>
            <a:off x="3571920" y="3182760"/>
            <a:ext cx="2374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tangolo arrotondato 7"/>
          <p:cNvSpPr/>
          <p:nvPr/>
        </p:nvSpPr>
        <p:spPr>
          <a:xfrm rot="20780400">
            <a:off x="1196640" y="1766520"/>
            <a:ext cx="2736720" cy="2235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10"/>
          <p:cNvSpPr/>
          <p:nvPr/>
        </p:nvSpPr>
        <p:spPr>
          <a:xfrm rot="20780400">
            <a:off x="1399680" y="1798920"/>
            <a:ext cx="2376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istol - Mal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urcia - Nurem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arrotondato 20"/>
          <p:cNvSpPr/>
          <p:nvPr/>
        </p:nvSpPr>
        <p:spPr>
          <a:xfrm rot="20390400">
            <a:off x="628200" y="4268520"/>
            <a:ext cx="273708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21"/>
          <p:cNvSpPr/>
          <p:nvPr/>
        </p:nvSpPr>
        <p:spPr>
          <a:xfrm rot="20390400">
            <a:off x="801720" y="4383720"/>
            <a:ext cx="2376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31.64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by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j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arrotondato 12"/>
          <p:cNvSpPr/>
          <p:nvPr/>
        </p:nvSpPr>
        <p:spPr>
          <a:xfrm rot="426600">
            <a:off x="3044880" y="4960800"/>
            <a:ext cx="27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13"/>
          <p:cNvSpPr/>
          <p:nvPr/>
        </p:nvSpPr>
        <p:spPr>
          <a:xfrm rot="426600">
            <a:off x="3194280" y="5082840"/>
            <a:ext cx="2374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d"/>
                </a:solidFill>
                <a:latin typeface="Arial"/>
              </a:rPr>
              <a:t>Carbon neutral by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h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11280" y="115920"/>
            <a:ext cx="640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 u="sng">
                <a:solidFill>
                  <a:srgbClr val="00808d"/>
                </a:solidFill>
                <a:uFillTx/>
                <a:latin typeface="Trebuchet MS"/>
              </a:rPr>
              <a:t>Why sign?</a:t>
            </a:r>
            <a:r>
              <a:rPr b="1" lang="en-GB" sz="34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595959"/>
                </a:solidFill>
                <a:uFillTx/>
                <a:latin typeface="Trebuchet MS"/>
              </a:rPr>
              <a:t>GDC can help cities work better</a:t>
            </a:r>
            <a:endParaRPr b="1" lang="en-US" sz="28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3640" y="1267920"/>
            <a:ext cx="69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808d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City teams work towards an official and explicit objecti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Signatories gain access to projects and tools developed by other cit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They can exchange best examples and know-how with pioneering pe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GDC offers visibility and promo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Trebuchet MS"/>
              </a:rPr>
              <a:t>Cities are supported by the NiCE projec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115920"/>
            <a:ext cx="6408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 u="sng">
                <a:solidFill>
                  <a:srgbClr val="00808d"/>
                </a:solidFill>
                <a:uFillTx/>
                <a:latin typeface="Trebuchet MS"/>
              </a:rPr>
              <a:t>Why sign?</a:t>
            </a:r>
            <a:r>
              <a:rPr b="1" lang="en-GB" sz="34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595959"/>
                </a:solidFill>
                <a:uFillTx/>
                <a:latin typeface="Trebuchet MS"/>
              </a:rPr>
              <a:t>GDC follows EU priorities</a:t>
            </a:r>
            <a:endParaRPr b="1" lang="en-US" sz="28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3640" y="1267920"/>
            <a:ext cx="69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8d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mart cities and communities E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20-20-20” go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ovenant of May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U-China cooperation in urbanisation and sustainable develop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Horizon 2020 objectives &amp; go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G:\Images&amp;Pics\ICT Photos\iStock_000020370065Small.jpg"/>
          <p:cNvPicPr/>
          <p:nvPr/>
        </p:nvPicPr>
        <p:blipFill>
          <a:blip r:embed="rId1"/>
          <a:srcRect l="17051" t="0" r="0" b="10701"/>
          <a:stretch/>
        </p:blipFill>
        <p:spPr>
          <a:xfrm>
            <a:off x="244440" y="3573360"/>
            <a:ext cx="3679920" cy="263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56275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Signing the Charter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0920" y="1628280"/>
            <a:ext cx="489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410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IGN IN 3 STEP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499"/>
              </a:spcBef>
              <a:buClr>
                <a:srgbClr val="00808d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heck eligibility (size, importa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499"/>
              </a:spcBef>
              <a:buClr>
                <a:srgbClr val="00808d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ity Council decision and appl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499"/>
              </a:spcBef>
              <a:buClr>
                <a:srgbClr val="00808d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igning Ceremo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10400" indent="-410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Segnaposto contenuto 2"/>
          <p:cNvSpPr/>
          <p:nvPr/>
        </p:nvSpPr>
        <p:spPr>
          <a:xfrm>
            <a:off x="3274920" y="3789360"/>
            <a:ext cx="576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BENEFITS FOR SIGNAT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Trainings and study t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Networking with pioneering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Visibility </a:t>
            </a:r>
            <a:r>
              <a:rPr b="0" lang="it-IT" sz="20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 website,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Access to GDC toolkit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62626"/>
                </a:solidFill>
                <a:latin typeface="Trebuchet MS"/>
              </a:rPr>
              <a:t>Opportunities for inernational co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Images&amp;Pics\ICT Photos\shutterstock_83736403.jpg"/>
          <p:cNvPicPr/>
          <p:nvPr/>
        </p:nvPicPr>
        <p:blipFill>
          <a:blip r:embed="rId9"/>
          <a:stretch/>
        </p:blipFill>
        <p:spPr>
          <a:xfrm>
            <a:off x="7020000" y="1544760"/>
            <a:ext cx="17398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G:\Images&amp;Pics\ICT Photos\shutterstock_48089713.jpg"/>
          <p:cNvPicPr/>
          <p:nvPr/>
        </p:nvPicPr>
        <p:blipFill>
          <a:blip r:embed="rId1"/>
          <a:stretch/>
        </p:blipFill>
        <p:spPr>
          <a:xfrm>
            <a:off x="0" y="4626000"/>
            <a:ext cx="3357720" cy="223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11592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The NiCE projec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23640" y="1413000"/>
            <a:ext cx="69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N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etworking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i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ntelligent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C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ities for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E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nergy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E</a:t>
            </a:r>
            <a:r>
              <a:rPr b="1" lang="en-GB" sz="2200" spc="-1" strike="noStrike">
                <a:solidFill>
                  <a:srgbClr val="808080"/>
                </a:solidFill>
                <a:latin typeface="Trebuchet MS"/>
              </a:rPr>
              <a:t>fficienc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Duration:</a:t>
            </a: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September 2011 – May 201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Coordinator:</a:t>
            </a: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EUROCITI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Partner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licks and Links Lt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anchester City Counci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Leibniz institute for Ecological Urban and Regional Develop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Funding programme: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FP7-I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5627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NiCE approach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10" name="Rettangolo arrotondato 4"/>
          <p:cNvSpPr/>
          <p:nvPr/>
        </p:nvSpPr>
        <p:spPr>
          <a:xfrm>
            <a:off x="541440" y="1555920"/>
            <a:ext cx="3887640" cy="136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8d"/>
                </a:solidFill>
                <a:latin typeface="Arial"/>
              </a:rPr>
              <a:t>GDC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tion Tools Cat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por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7"/>
          <p:cNvSpPr/>
          <p:nvPr/>
        </p:nvSpPr>
        <p:spPr>
          <a:xfrm>
            <a:off x="1549440" y="3139920"/>
            <a:ext cx="3672000" cy="136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8d"/>
                </a:solidFill>
                <a:latin typeface="Arial"/>
              </a:rPr>
              <a:t>SUPPORT TO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DC Contac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hnical trai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udy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15"/>
          <p:cNvSpPr/>
          <p:nvPr/>
        </p:nvSpPr>
        <p:spPr>
          <a:xfrm>
            <a:off x="6659640" y="5877000"/>
            <a:ext cx="248436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arrotondato 8"/>
          <p:cNvSpPr/>
          <p:nvPr/>
        </p:nvSpPr>
        <p:spPr>
          <a:xfrm>
            <a:off x="2413080" y="4724280"/>
            <a:ext cx="3671640" cy="136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8d"/>
                </a:solidFill>
                <a:latin typeface="Arial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ad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peration with 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cus o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Rettangolo arrotondato 13" descr=""/>
          <p:cNvPicPr/>
          <p:nvPr/>
        </p:nvPicPr>
        <p:blipFill>
          <a:blip r:embed="rId1"/>
          <a:stretch/>
        </p:blipFill>
        <p:spPr>
          <a:xfrm>
            <a:off x="7948440" y="1481040"/>
            <a:ext cx="1024200" cy="4761000"/>
          </a:xfrm>
          <a:prstGeom prst="rect">
            <a:avLst/>
          </a:prstGeom>
          <a:ln w="0">
            <a:noFill/>
          </a:ln>
        </p:spPr>
      </p:pic>
      <p:sp>
        <p:nvSpPr>
          <p:cNvPr id="115" name="Freccia circolare a destra 20"/>
          <p:cNvSpPr/>
          <p:nvPr/>
        </p:nvSpPr>
        <p:spPr>
          <a:xfrm rot="16200000">
            <a:off x="5933160" y="1202040"/>
            <a:ext cx="444600" cy="2735280"/>
          </a:xfrm>
          <a:custGeom>
            <a:avLst/>
            <a:gdLst>
              <a:gd name="textAreaLeft" fmla="*/ 59400 w 444600"/>
              <a:gd name="textAreaRight" fmla="*/ 385200 w 444600"/>
              <a:gd name="textAreaTop" fmla="*/ 642240 h 2735280"/>
              <a:gd name="textAreaBottom" fmla="*/ 20376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44" stAng="-5400000" swAng="-5400000"/>
                <a:lnTo>
                  <a:pt x="0" y="11019"/>
                </a:lnTo>
                <a:arcTo wR="21600" hR="10144" stAng="10800000" swAng="-3671828"/>
                <a:lnTo>
                  <a:pt x="16200" y="21278"/>
                </a:lnTo>
                <a:lnTo>
                  <a:pt x="21600" y="20725"/>
                </a:lnTo>
                <a:lnTo>
                  <a:pt x="16200" y="19527"/>
                </a:lnTo>
                <a:lnTo>
                  <a:pt x="16200" y="19965"/>
                </a:lnTo>
                <a:arcTo wR="21600" hR="10144" stAng="7128172" swAng="3602143"/>
                <a:lnTo>
                  <a:pt x="20" y="10581"/>
                </a:lnTo>
                <a:arcTo wR="21600" hR="10144" stAng="-10730314" swAng="5330314"/>
                <a:close/>
              </a:path>
              <a:path fill="darkenLess" w="21600" h="21600">
                <a:moveTo>
                  <a:pt x="21600" y="0"/>
                </a:moveTo>
                <a:arcTo wR="21600" hR="10144" stAng="-5400000" swAng="-5400000"/>
                <a:lnTo>
                  <a:pt x="0" y="10144"/>
                </a:lnTo>
                <a:arcTo wR="21600" hR="10144" stAng="10800000" swAng="-69686"/>
                <a:lnTo>
                  <a:pt x="20" y="10581"/>
                </a:lnTo>
                <a:arcTo wR="21600" hR="10144" stAng="-10730314" swAng="53303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ccia circolare a destra 21"/>
          <p:cNvSpPr/>
          <p:nvPr/>
        </p:nvSpPr>
        <p:spPr>
          <a:xfrm rot="16200000">
            <a:off x="6408000" y="3032640"/>
            <a:ext cx="360360" cy="2158920"/>
          </a:xfrm>
          <a:custGeom>
            <a:avLst/>
            <a:gdLst>
              <a:gd name="textAreaLeft" fmla="*/ 48240 w 360360"/>
              <a:gd name="textAreaRight" fmla="*/ 312120 w 360360"/>
              <a:gd name="textAreaTop" fmla="*/ 505800 h 2158920"/>
              <a:gd name="textAreaBottom" fmla="*/ 160812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25" stAng="-5400000" swAng="-5400000"/>
                <a:lnTo>
                  <a:pt x="0" y="11026"/>
                </a:lnTo>
                <a:arcTo wR="21600" hR="10125" stAng="10800000" swAng="-3669106"/>
                <a:lnTo>
                  <a:pt x="16200" y="21279"/>
                </a:lnTo>
                <a:lnTo>
                  <a:pt x="21600" y="20700"/>
                </a:lnTo>
                <a:lnTo>
                  <a:pt x="16200" y="19478"/>
                </a:lnTo>
                <a:lnTo>
                  <a:pt x="16200" y="19928"/>
                </a:lnTo>
                <a:arcTo wR="21600" hR="10125" stAng="7130894" swAng="3597346"/>
                <a:lnTo>
                  <a:pt x="21" y="10575"/>
                </a:lnTo>
                <a:arcTo wR="21600" hR="10125" stAng="-10728240" swAng="5328240"/>
                <a:close/>
              </a:path>
              <a:path fill="darkenLess" w="21600" h="21600">
                <a:moveTo>
                  <a:pt x="21600" y="0"/>
                </a:moveTo>
                <a:arcTo wR="21600" hR="10125" stAng="-5400000" swAng="-5400000"/>
                <a:lnTo>
                  <a:pt x="0" y="10125"/>
                </a:lnTo>
                <a:arcTo wR="21600" hR="10125" stAng="10800000" swAng="-71760"/>
                <a:lnTo>
                  <a:pt x="21" y="10575"/>
                </a:lnTo>
                <a:arcTo wR="21600" hR="10125" stAng="-10728240" swAng="532824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ccia circolare a destra 22"/>
          <p:cNvSpPr/>
          <p:nvPr/>
        </p:nvSpPr>
        <p:spPr>
          <a:xfrm rot="16200000">
            <a:off x="6875280" y="4931640"/>
            <a:ext cx="298440" cy="1447920"/>
          </a:xfrm>
          <a:custGeom>
            <a:avLst/>
            <a:gdLst>
              <a:gd name="textAreaLeft" fmla="*/ 39960 w 298440"/>
              <a:gd name="textAreaRight" fmla="*/ 258480 w 298440"/>
              <a:gd name="textAreaTop" fmla="*/ 334080 h 1447920"/>
              <a:gd name="textAreaBottom" fmla="*/ 1076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70" stAng="-5400000" swAng="-5400000"/>
                <a:lnTo>
                  <a:pt x="0" y="11077"/>
                </a:lnTo>
                <a:arcTo wR="21600" hR="9970" stAng="10800000" swAng="-3646673"/>
                <a:lnTo>
                  <a:pt x="16200" y="21283"/>
                </a:lnTo>
                <a:lnTo>
                  <a:pt x="21600" y="20494"/>
                </a:lnTo>
                <a:lnTo>
                  <a:pt x="16200" y="19070"/>
                </a:lnTo>
                <a:lnTo>
                  <a:pt x="16200" y="19623"/>
                </a:lnTo>
                <a:arcTo wR="21600" hR="9970" stAng="7153327" swAng="3558464"/>
                <a:lnTo>
                  <a:pt x="33" y="10524"/>
                </a:lnTo>
                <a:arcTo wR="21600" hR="9970" stAng="-10711791" swAng="5311791"/>
                <a:close/>
              </a:path>
              <a:path fill="darkenLess" w="21600" h="21600">
                <a:moveTo>
                  <a:pt x="21600" y="0"/>
                </a:moveTo>
                <a:arcTo wR="21600" hR="9970" stAng="-5400000" swAng="-5400000"/>
                <a:lnTo>
                  <a:pt x="0" y="9970"/>
                </a:lnTo>
                <a:arcTo wR="21600" hR="9970" stAng="10800000" swAng="-88209"/>
                <a:lnTo>
                  <a:pt x="33" y="10524"/>
                </a:lnTo>
                <a:arcTo wR="21600" hR="9970" stAng="-10711791" swAng="531179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ccia circolare a destra 23"/>
          <p:cNvSpPr/>
          <p:nvPr/>
        </p:nvSpPr>
        <p:spPr>
          <a:xfrm flipH="1" flipV="1" rot="16200000">
            <a:off x="6877080" y="4581360"/>
            <a:ext cx="295200" cy="1447920"/>
          </a:xfrm>
          <a:custGeom>
            <a:avLst/>
            <a:gdLst>
              <a:gd name="textAreaLeft" fmla="*/ 39240 w 295200"/>
              <a:gd name="textAreaRight" fmla="*/ 255960 w 295200"/>
              <a:gd name="textAreaTop" fmla="*/ 334440 h 1447920"/>
              <a:gd name="textAreaBottom" fmla="*/ 107712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70" stAng="-5400000" swAng="-5400000"/>
                <a:lnTo>
                  <a:pt x="0" y="11077"/>
                </a:lnTo>
                <a:arcTo wR="21600" hR="9970" stAng="10800000" swAng="-3646673"/>
                <a:lnTo>
                  <a:pt x="16200" y="21283"/>
                </a:lnTo>
                <a:lnTo>
                  <a:pt x="21600" y="20494"/>
                </a:lnTo>
                <a:lnTo>
                  <a:pt x="16200" y="19070"/>
                </a:lnTo>
                <a:lnTo>
                  <a:pt x="16200" y="19623"/>
                </a:lnTo>
                <a:arcTo wR="21600" hR="9970" stAng="7153327" swAng="3558464"/>
                <a:lnTo>
                  <a:pt x="33" y="10524"/>
                </a:lnTo>
                <a:arcTo wR="21600" hR="9970" stAng="-10711791" swAng="5311791"/>
                <a:close/>
              </a:path>
              <a:path fill="darkenLess" w="21600" h="21600">
                <a:moveTo>
                  <a:pt x="21600" y="0"/>
                </a:moveTo>
                <a:arcTo wR="21600" hR="9970" stAng="-5400000" swAng="-5400000"/>
                <a:lnTo>
                  <a:pt x="0" y="9970"/>
                </a:lnTo>
                <a:arcTo wR="21600" hR="9970" stAng="10800000" swAng="-88209"/>
                <a:lnTo>
                  <a:pt x="33" y="10524"/>
                </a:lnTo>
                <a:arcTo wR="21600" hR="9970" stAng="-10711791" swAng="5311791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ccia circolare a destra 24"/>
          <p:cNvSpPr/>
          <p:nvPr/>
        </p:nvSpPr>
        <p:spPr>
          <a:xfrm flipH="1" flipV="1" rot="16200000">
            <a:off x="6407280" y="2455560"/>
            <a:ext cx="360360" cy="2158920"/>
          </a:xfrm>
          <a:custGeom>
            <a:avLst/>
            <a:gdLst>
              <a:gd name="textAreaLeft" fmla="*/ 48240 w 360360"/>
              <a:gd name="textAreaRight" fmla="*/ 312120 w 360360"/>
              <a:gd name="textAreaTop" fmla="*/ 505440 h 2158920"/>
              <a:gd name="textAreaBottom" fmla="*/ 1607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25" stAng="-5400000" swAng="-5400000"/>
                <a:lnTo>
                  <a:pt x="0" y="11026"/>
                </a:lnTo>
                <a:arcTo wR="21600" hR="10125" stAng="10800000" swAng="-3669106"/>
                <a:lnTo>
                  <a:pt x="16200" y="21279"/>
                </a:lnTo>
                <a:lnTo>
                  <a:pt x="21600" y="20700"/>
                </a:lnTo>
                <a:lnTo>
                  <a:pt x="16200" y="19478"/>
                </a:lnTo>
                <a:lnTo>
                  <a:pt x="16200" y="19928"/>
                </a:lnTo>
                <a:arcTo wR="21600" hR="10125" stAng="7130894" swAng="3597346"/>
                <a:lnTo>
                  <a:pt x="21" y="10575"/>
                </a:lnTo>
                <a:arcTo wR="21600" hR="10125" stAng="-10728240" swAng="5328240"/>
                <a:close/>
              </a:path>
              <a:path fill="darkenLess" w="21600" h="21600">
                <a:moveTo>
                  <a:pt x="21600" y="0"/>
                </a:moveTo>
                <a:arcTo wR="21600" hR="10125" stAng="-5400000" swAng="-5400000"/>
                <a:lnTo>
                  <a:pt x="0" y="10125"/>
                </a:lnTo>
                <a:arcTo wR="21600" hR="10125" stAng="10800000" swAng="-71760"/>
                <a:lnTo>
                  <a:pt x="21" y="10575"/>
                </a:lnTo>
                <a:arcTo wR="21600" hR="10125" stAng="-10728240" swAng="532824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ccia circolare a destra 25"/>
          <p:cNvSpPr/>
          <p:nvPr/>
        </p:nvSpPr>
        <p:spPr>
          <a:xfrm flipH="1" flipV="1" rot="16200000">
            <a:off x="5933160" y="553680"/>
            <a:ext cx="444600" cy="2735280"/>
          </a:xfrm>
          <a:custGeom>
            <a:avLst/>
            <a:gdLst>
              <a:gd name="textAreaLeft" fmla="*/ 59400 w 444600"/>
              <a:gd name="textAreaRight" fmla="*/ 385200 w 444600"/>
              <a:gd name="textAreaTop" fmla="*/ 642240 h 2735280"/>
              <a:gd name="textAreaBottom" fmla="*/ 20376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144" stAng="-5400000" swAng="-5400000"/>
                <a:lnTo>
                  <a:pt x="0" y="11019"/>
                </a:lnTo>
                <a:arcTo wR="21600" hR="10144" stAng="10800000" swAng="-3671828"/>
                <a:lnTo>
                  <a:pt x="16200" y="21278"/>
                </a:lnTo>
                <a:lnTo>
                  <a:pt x="21600" y="20725"/>
                </a:lnTo>
                <a:lnTo>
                  <a:pt x="16200" y="19527"/>
                </a:lnTo>
                <a:lnTo>
                  <a:pt x="16200" y="19965"/>
                </a:lnTo>
                <a:arcTo wR="21600" hR="10144" stAng="7128172" swAng="3602143"/>
                <a:lnTo>
                  <a:pt x="20" y="10581"/>
                </a:lnTo>
                <a:arcTo wR="21600" hR="10144" stAng="-10730314" swAng="5330314"/>
                <a:close/>
              </a:path>
              <a:path fill="darkenLess" w="21600" h="21600">
                <a:moveTo>
                  <a:pt x="21600" y="0"/>
                </a:moveTo>
                <a:arcTo wR="21600" hR="10144" stAng="-5400000" swAng="-5400000"/>
                <a:lnTo>
                  <a:pt x="0" y="10144"/>
                </a:lnTo>
                <a:arcTo wR="21600" hR="10144" stAng="10800000" swAng="-69686"/>
                <a:lnTo>
                  <a:pt x="20" y="10581"/>
                </a:lnTo>
                <a:arcTo wR="21600" hR="10144" stAng="-10730314" swAng="533031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539640" y="6281640"/>
            <a:ext cx="8425080" cy="576360"/>
          </a:xfrm>
          <a:prstGeom prst="roundRect">
            <a:avLst>
              <a:gd name="adj" fmla="val 16667"/>
            </a:avLst>
          </a:prstGeom>
          <a:solidFill>
            <a:srgbClr val="008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395280" y="6381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ISORY GROUPS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ference Cities Group &amp; Expert Advisory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43920"/>
            <a:ext cx="562752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Thank you!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5120" y="1628640"/>
            <a:ext cx="84088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SzPct val="107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GDC CONTACT POIN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info@greendigitalcharter.e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www.greendigitalcharter.e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@GDChar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buSzPct val="107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COORDINATOR:   EUROCITIES – Nikolaos Kontinaki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nikolaos.kontinakis@eurocities.eu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+32 (0)2 552 08 46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524"/>
              </a:spcBef>
              <a:buSzPct val="1077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PARTNERS: 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it-IT" sz="2100" spc="-1" strike="noStrike" u="sng">
                <a:solidFill>
                  <a:srgbClr val="009999"/>
                </a:solidFill>
                <a:uFillTx/>
                <a:latin typeface="Trebuchet MS"/>
                <a:hlinkClick r:id="rId7"/>
              </a:rPr>
              <a:t>http://www.greendigitalcharter.eu/contact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Picture 4" descr="C:\Users\Giu\Desktop\EUROCITIES.jpg"/>
          <p:cNvPicPr/>
          <p:nvPr/>
        </p:nvPicPr>
        <p:blipFill>
          <a:blip r:embed="rId8"/>
          <a:stretch/>
        </p:blipFill>
        <p:spPr>
          <a:xfrm>
            <a:off x="1763640" y="3639960"/>
            <a:ext cx="48600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Giu\Desktop\Leibniz Institute.jpg"/>
          <p:cNvPicPr/>
          <p:nvPr/>
        </p:nvPicPr>
        <p:blipFill>
          <a:blip r:embed="rId9"/>
          <a:srcRect l="762" t="2871" r="0" b="0"/>
          <a:stretch/>
        </p:blipFill>
        <p:spPr>
          <a:xfrm>
            <a:off x="6535800" y="5229360"/>
            <a:ext cx="1923840" cy="71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Users\Giu\Desktop\Clicks and Links.JPG"/>
          <p:cNvPicPr/>
          <p:nvPr/>
        </p:nvPicPr>
        <p:blipFill>
          <a:blip r:embed="rId10"/>
          <a:stretch/>
        </p:blipFill>
        <p:spPr>
          <a:xfrm>
            <a:off x="976320" y="5280120"/>
            <a:ext cx="2635200" cy="59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Users\Giu\Desktop\Manchester.jpg"/>
          <p:cNvPicPr/>
          <p:nvPr/>
        </p:nvPicPr>
        <p:blipFill>
          <a:blip r:embed="rId11"/>
          <a:stretch/>
        </p:blipFill>
        <p:spPr>
          <a:xfrm>
            <a:off x="3790800" y="5337000"/>
            <a:ext cx="2514600" cy="481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0.gstatic.com/images?q=tbn:ANd9GcRuxdbNcpmlTCIHgERO22CxqAW3n7r2TD2XmbH-2VosuQ-2Ez-N"/>
          <p:cNvPicPr/>
          <p:nvPr/>
        </p:nvPicPr>
        <p:blipFill>
          <a:blip r:embed="rId12"/>
          <a:stretch/>
        </p:blipFill>
        <p:spPr>
          <a:xfrm>
            <a:off x="1087560" y="280368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Green IC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989000"/>
            <a:ext cx="547344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Green IT collaboration in the </a:t>
            </a: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City of Malmö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476"/>
              </a:spcBef>
              <a:buSzPct val="1191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Introduce a model for collaboration concerning Green IT within the municipality departments in the City of Malmö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476"/>
              </a:spcBef>
              <a:buSzPct val="1191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724360" y="1800360"/>
            <a:ext cx="2998800" cy="1844640"/>
          </a:xfrm>
          <a:prstGeom prst="rect">
            <a:avLst/>
          </a:prstGeom>
          <a:ln w="0">
            <a:noFill/>
          </a:ln>
        </p:spPr>
      </p:pic>
      <p:sp>
        <p:nvSpPr>
          <p:cNvPr id="46" name="Segnaposto contenuto 6"/>
          <p:cNvSpPr/>
          <p:nvPr/>
        </p:nvSpPr>
        <p:spPr>
          <a:xfrm>
            <a:off x="3492360" y="3933720"/>
            <a:ext cx="51832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Green AddICT</a:t>
            </a:r>
            <a:r>
              <a:rPr b="1" lang="en-US" sz="2000" spc="-1" strike="noStrike">
                <a:solidFill>
                  <a:srgbClr val="3c8c93"/>
                </a:solidFill>
                <a:latin typeface="Trebuchet MS"/>
              </a:rPr>
              <a:t> </a:t>
            </a: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Bris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arries information on ICT-based carbon dioxide emissions in Bristol including case studies on green businesses, carbon calculators, and statistics on ICT carbon and energy bill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5"/>
          <a:stretch/>
        </p:blipFill>
        <p:spPr>
          <a:xfrm>
            <a:off x="250920" y="4260960"/>
            <a:ext cx="316872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in building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49" name="Segnaposto contenuto 6"/>
          <p:cNvSpPr/>
          <p:nvPr/>
        </p:nvSpPr>
        <p:spPr>
          <a:xfrm>
            <a:off x="539640" y="1916280"/>
            <a:ext cx="54738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Birmingham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AIM HIG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Field test and evaluate the effectiveness of digital technologies for energy saving such as domestic smart meters, heating controls etc in a testbed of 348 ho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contenuto 6"/>
          <p:cNvSpPr/>
          <p:nvPr/>
        </p:nvSpPr>
        <p:spPr>
          <a:xfrm>
            <a:off x="3276720" y="4221000"/>
            <a:ext cx="58672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Amsterdam</a:t>
            </a:r>
            <a:r>
              <a:rPr b="1" lang="en-US" sz="20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mart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Involve 11 organisations over 2 months using the ‘Wattcher’ to monitor their energy consumption, thereby becoming more aware of their usage and enabling them to save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6156360" y="170028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250920" y="6165720"/>
            <a:ext cx="295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msterdam Watt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http://www.greenlaunches.com/gadgets-and-tech/wattcher_to_curb_energy_consumption_at_home.p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Wattcher"/>
          <p:cNvPicPr/>
          <p:nvPr/>
        </p:nvPicPr>
        <p:blipFill>
          <a:blip r:embed="rId5"/>
          <a:stretch/>
        </p:blipFill>
        <p:spPr>
          <a:xfrm>
            <a:off x="250920" y="4221000"/>
            <a:ext cx="2808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in transport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56" name="Segnaposto contenuto 6"/>
          <p:cNvSpPr/>
          <p:nvPr/>
        </p:nvSpPr>
        <p:spPr>
          <a:xfrm>
            <a:off x="250920" y="4941720"/>
            <a:ext cx="460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Tallinn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Real-time inform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ake up-to-date, reliable travel information available to passengers in an effort to increase ridership levels on public trans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gnaposto contenuto 6"/>
          <p:cNvSpPr/>
          <p:nvPr/>
        </p:nvSpPr>
        <p:spPr>
          <a:xfrm>
            <a:off x="4356000" y="1628640"/>
            <a:ext cx="47880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Nice Côte d’Azur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Eco Va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oviding seamless journeys for travelers by coordinating and integrating different methods of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fferent pilots: intelligent parking, electric car-sharing schemes and Near Field Communication (NFC) technology around ticketing and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egnaposto contenuto 6"/>
          <p:cNvSpPr/>
          <p:nvPr/>
        </p:nvSpPr>
        <p:spPr>
          <a:xfrm>
            <a:off x="216000" y="2881440"/>
            <a:ext cx="442728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Bologna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Traffic control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velopment of a traffic control centre to manage traffic in the metropolitan area. This will improve traffic flow, provide real-time traffic data, and contributing to the development of municipal traffic plann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mob_cars"/>
          <p:cNvPicPr/>
          <p:nvPr/>
        </p:nvPicPr>
        <p:blipFill>
          <a:blip r:embed="rId6"/>
          <a:stretch/>
        </p:blipFill>
        <p:spPr>
          <a:xfrm>
            <a:off x="2897280" y="620640"/>
            <a:ext cx="138744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ob_tram_white_2"/>
          <p:cNvPicPr/>
          <p:nvPr/>
        </p:nvPicPr>
        <p:blipFill>
          <a:blip r:embed="rId7"/>
          <a:stretch/>
        </p:blipFill>
        <p:spPr>
          <a:xfrm>
            <a:off x="5227560" y="3860640"/>
            <a:ext cx="30895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in lighting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62" name="Segnaposto contenuto 6"/>
          <p:cNvSpPr/>
          <p:nvPr/>
        </p:nvSpPr>
        <p:spPr>
          <a:xfrm>
            <a:off x="1332000" y="2205000"/>
            <a:ext cx="53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nergy Efficiency Public Lighting in </a:t>
            </a: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Rij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97% of public lights in Rijeka are energy efficient. City spends less energy per light and has sustainable goal to reduce lighting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egnaposto contenuto 6"/>
          <p:cNvSpPr/>
          <p:nvPr/>
        </p:nvSpPr>
        <p:spPr>
          <a:xfrm>
            <a:off x="4140360" y="4076640"/>
            <a:ext cx="47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08d"/>
                </a:solidFill>
                <a:uFillTx/>
                <a:latin typeface="Trebuchet MS"/>
              </a:rPr>
              <a:t>Genoa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I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vestigate the implementation of “smart”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ghting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n high quality urban areas, with the aim of piloting innovative solutions and achieve both energy efficiency and improved quality of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Burgas Municipality_photo city4"/>
          <p:cNvPicPr/>
          <p:nvPr/>
        </p:nvPicPr>
        <p:blipFill>
          <a:blip r:embed="rId3"/>
          <a:stretch/>
        </p:blipFill>
        <p:spPr>
          <a:xfrm>
            <a:off x="6804000" y="2205000"/>
            <a:ext cx="2054160" cy="154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4"/>
          <a:srcRect l="8989" t="9085" r="0" b="0"/>
          <a:stretch/>
        </p:blipFill>
        <p:spPr>
          <a:xfrm>
            <a:off x="324000" y="4149720"/>
            <a:ext cx="3639960" cy="2163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3"/>
          <p:cNvSpPr/>
          <p:nvPr/>
        </p:nvSpPr>
        <p:spPr>
          <a:xfrm>
            <a:off x="6732720" y="3573360"/>
            <a:ext cx="29527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ty of Bur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108000" y="6535800"/>
            <a:ext cx="295272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ty of Rije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Cities projects: </a:t>
            </a:r>
            <a:br>
              <a:rPr sz="3600"/>
            </a:br>
            <a:r>
              <a:rPr b="1" lang="it-IT" sz="3600" spc="-1" strike="noStrike" u="sng">
                <a:solidFill>
                  <a:srgbClr val="00808d"/>
                </a:solidFill>
                <a:uFillTx/>
                <a:latin typeface="Trebuchet MS"/>
              </a:rPr>
              <a:t>ICT4EE – cross-sector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69" name="Segnaposto contenuto 6"/>
          <p:cNvSpPr/>
          <p:nvPr/>
        </p:nvSpPr>
        <p:spPr>
          <a:xfrm>
            <a:off x="3348000" y="4292640"/>
            <a:ext cx="54738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Eindhove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Ambient sensor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Distributed control system for energy management to achieve efficient energy 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warded the Living Labs Global Award in 20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contenuto 6"/>
          <p:cNvSpPr/>
          <p:nvPr/>
        </p:nvSpPr>
        <p:spPr>
          <a:xfrm>
            <a:off x="179280" y="184464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8d"/>
                </a:solidFill>
                <a:uFillTx/>
                <a:latin typeface="Trebuchet MS"/>
              </a:rPr>
              <a:t>Manchester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Smart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Enable residents to collect data about the city environment through the use of wearable sensor technology as well as sensors embedded in streets, buildings and green spac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rebuchet MS"/>
              </a:rPr>
              <a:t>Example: provide info as “at what time of day pollution is at a high” or “how trees help improve the environment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6"/>
          <a:stretch/>
        </p:blipFill>
        <p:spPr>
          <a:xfrm>
            <a:off x="539640" y="4292640"/>
            <a:ext cx="2448000" cy="146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50920" y="5877000"/>
            <a:ext cx="367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indhoven sen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tp://www.llga.org/past_edition.php?idPastE=50&amp;any=2011#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shutterstock_58390399"/>
          <p:cNvPicPr/>
          <p:nvPr/>
        </p:nvPicPr>
        <p:blipFill>
          <a:blip r:embed="rId7"/>
          <a:stretch/>
        </p:blipFill>
        <p:spPr>
          <a:xfrm>
            <a:off x="6732720" y="1628640"/>
            <a:ext cx="22017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915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The Green Digital Charter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2000" y="1484280"/>
            <a:ext cx="601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EUROCITIE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initia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City of Manchester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Clicks and Link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Green Shift Europ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8d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European Commission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9640" y="3429000"/>
            <a:ext cx="4824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its cities to reduce emissions through IC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00808c"/>
                </a:solidFill>
                <a:uFillTx/>
                <a:latin typeface="Trebuchet MS"/>
              </a:rPr>
              <a:t>Green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romotes </a:t>
            </a:r>
            <a:r>
              <a:rPr b="1" lang="en-GB" sz="2000" spc="-1" strike="noStrike">
                <a:solidFill>
                  <a:srgbClr val="00808d"/>
                </a:solidFill>
                <a:latin typeface="Trebuchet MS"/>
              </a:rPr>
              <a:t>progress in tackling climate change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through the innovative use of digital technologies in citie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800" spc="-1" strike="noStrike" u="sng">
                <a:solidFill>
                  <a:srgbClr val="00808c"/>
                </a:solidFill>
                <a:uFillTx/>
                <a:latin typeface="Trebuchet MS"/>
              </a:rPr>
              <a:t>ICT for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5483160" y="3500280"/>
            <a:ext cx="32655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Commitment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79280" y="1196640"/>
            <a:ext cx="62643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ree tangible commitment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Work with Green Digital Charter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signatories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on ICT &amp; energy efficienc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Deploy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5 large-scale ICT pilots</a:t>
            </a:r>
            <a:r>
              <a:rPr b="0" lang="en-GB" sz="2200" spc="-1" strike="noStrike">
                <a:solidFill>
                  <a:srgbClr val="00808d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er city within 5 yea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Decrease </a:t>
            </a:r>
            <a:r>
              <a:rPr b="1" lang="en-GB" sz="2200" spc="-1" strike="noStrike">
                <a:solidFill>
                  <a:srgbClr val="00808d"/>
                </a:solidFill>
                <a:latin typeface="Trebuchet MS"/>
              </a:rPr>
              <a:t>ICT’s direct carbon footprint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er city by 30% within 10 yea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0" name="Picture 5" descr="zagreb signing_cropped"/>
          <p:cNvPicPr/>
          <p:nvPr/>
        </p:nvPicPr>
        <p:blipFill>
          <a:blip r:embed="rId4"/>
          <a:stretch/>
        </p:blipFill>
        <p:spPr>
          <a:xfrm>
            <a:off x="395280" y="4975200"/>
            <a:ext cx="39020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130320"/>
            <a:ext cx="562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808d"/>
                </a:solidFill>
                <a:uFillTx/>
                <a:latin typeface="Trebuchet MS"/>
              </a:rPr>
              <a:t>The Charter Signatories</a:t>
            </a:r>
            <a:endParaRPr b="1" lang="en-US" sz="3600" spc="-1" strike="noStrike" u="sng">
              <a:solidFill>
                <a:srgbClr val="00808d"/>
              </a:solidFill>
              <a:uFillTx/>
              <a:latin typeface="Trebuchet MS"/>
            </a:endParaRPr>
          </a:p>
        </p:txBody>
      </p:sp>
      <p:pic>
        <p:nvPicPr>
          <p:cNvPr id="82" name="Picture 5" descr="M:\Projects Knowledge Society Forum\NiCE - GDC\WP4 - Outreach and Engagement\T4.1 - Communication\Images &amp; Pics\Signatories map\Map Europe GDC signatories_clean_14.01.jpg"/>
          <p:cNvPicPr/>
          <p:nvPr/>
        </p:nvPicPr>
        <p:blipFill>
          <a:blip r:embed="rId1"/>
          <a:stretch/>
        </p:blipFill>
        <p:spPr>
          <a:xfrm>
            <a:off x="2597040" y="895320"/>
            <a:ext cx="607716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5537160"/>
            <a:ext cx="4392720" cy="1060560"/>
          </a:xfrm>
          <a:prstGeom prst="rect">
            <a:avLst/>
          </a:prstGeom>
          <a:solidFill>
            <a:srgbClr val="f8f8f8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d"/>
                </a:solidFill>
                <a:latin typeface="Trebuchet MS"/>
              </a:rPr>
              <a:t>42</a:t>
            </a:r>
            <a:r>
              <a:rPr b="0" lang="en-GB" sz="2800" spc="-1" strike="noStrike">
                <a:solidFill>
                  <a:srgbClr val="00808d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ignato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d"/>
                </a:solidFill>
                <a:latin typeface="Trebuchet MS"/>
              </a:rPr>
              <a:t>18</a:t>
            </a:r>
            <a:r>
              <a:rPr b="0" lang="en-GB" sz="2400" spc="-1" strike="noStrike">
                <a:solidFill>
                  <a:srgbClr val="00808d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uropean count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0:04:59Z</dcterms:created>
  <dc:creator>GC</dc:creator>
  <dc:description/>
  <dc:language>en-US</dc:language>
  <cp:lastModifiedBy>Nikolaos Kontinakis</cp:lastModifiedBy>
  <dcterms:modified xsi:type="dcterms:W3CDTF">2014-03-19T14:54:52Z</dcterms:modified>
  <cp:revision>118</cp:revision>
  <dc:subject/>
  <dc:title>Slide 1</dc:title>
</cp:coreProperties>
</file>