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005-87B8-44CF-838D-DC77FACA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372-C610-433D-86FB-19F6123A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0E5-209A-45FF-8252-4AAC0574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711-048A-4F53-A608-E2B1EF38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6BEF-3C62-406A-AF9F-D3111EF8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8692-6D2F-46CD-8BD0-D667C78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5D73-B0C6-4388-AEC5-00E876AE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962C-6901-4231-82EC-B51014A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B45-3626-4FE1-A325-0DB01B4E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C331-3144-40AF-BF96-AC884B69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4A54-5DC2-4DF4-BA34-71FC43B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DAD-376C-4B6C-82FE-FB77945F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8AC-4DD6-447E-8305-ADBC05BC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D086-4FD8-458C-A9C1-2632D01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9D9-AA1F-423C-A580-48C2666C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2797-1CDC-4D3B-A9DA-004DCDAC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0B8-2F4E-47F4-979B-02255631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FC35E-623C-4113-BD31-8654017F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8E7D9-2644-4390-9367-5F8E90F5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32D10-CAC7-4E2D-B462-04FF251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82E8A-5770-4B2E-A776-CC8706D6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3B797-9E5D-4683-A7F1-F674BDA7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6CA-0FB3-4A03-8771-E2D3AB3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D8E0E-6CD2-4793-B919-FCF3328F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9F350-FD97-4B20-9D52-0B84E39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06F83-24CC-4141-8DD3-5CED757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0D33D-6D4A-40B6-B0DD-4309667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08725-7B1C-4EF4-8BEA-600E1FD5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54157-984A-4358-8BFB-F42BC1BD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CF9FB-0D87-4707-B87F-5442033F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DF42-CD2A-415A-AA6D-4D78ACF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F51F3-EAE1-4C99-ACE0-9CC75FB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2C0C-9C13-4516-8788-B44E162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4C8-A13F-420D-A27D-6012E321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AFCF-D7E6-4907-AEE5-8FEF2308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94D5-DD81-489D-B58D-E38AA968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C174-60D6-4F27-9F86-0874D20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2DC2-2270-424C-830B-6C72EF5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B112-EB7D-4C4A-8266-4351310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9054-9039-4625-A36F-BD68D97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EE0C-DD44-494A-B436-5288CD1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779B0-D91E-4A3C-885C-7FD41ABF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1A2B-61C5-4CC3-8C2A-0FE924C2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6EB-3A61-4E42-9982-2872113A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411-996E-408D-8C8E-C7EBC997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3DD-6440-4904-842F-3AB6EFC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026-5F4B-4B7C-BA3D-876D9C21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81F-DE63-4A00-9618-D01497A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C486-BAB7-4B9D-A33A-453E8C54EEB4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DA7B-B311-4085-8027-299755CBE20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32B7-BEA8-4397-9C87-82F4720EC485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1D3-ED8C-41DB-95C6-E93D15CAF8F1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18B1-C543-4C79-9C9D-04ADD728112B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5941-478F-49CA-92C2-A7291B666D6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BAFB-7FF5-4211-ABDE-A445A70D8FF9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4E5-8482-4BC3-8714-8359FBB08BB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c600"/>
                </a:solidFill>
                <a:latin typeface="Century Gothic"/>
              </a:rPr>
              <a:t>Green Digital Charter Study Tour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24242"/>
                </a:solidFill>
                <a:latin typeface="Century Gothic"/>
              </a:rPr>
              <a:t>Welcome to Birmingham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4738680" y="1165320"/>
            <a:ext cx="30020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2749-C23E-4C8E-B9E3-81E2B459D9FA}" type="datetime3">
              <a:rPr b="0" lang="en-US" sz="24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4932360" y="5719680"/>
            <a:ext cx="320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Heike Schuster-James Program Manage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B8ED-BCA4-4A45-A7C4-00D39F922D0B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548000" cy="15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4036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379600" y="1700280"/>
            <a:ext cx="6008760" cy="31687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Smart City Birmingha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59280" y="2323800"/>
            <a:ext cx="47606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5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E75F-47D2-47B3-9FD7-7BD13DE679C3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36E-24A9-427C-82C9-D0B28496B2EC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2144520" cy="21765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1908000" y="4587840"/>
            <a:ext cx="2652840" cy="18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Green Digital Chart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D2D-BD8E-4B56-9DCC-7224440585E1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3A96-01ED-40B6-A7BC-112D2171D2F5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Birmingham co-developer and first wave signatory 2009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Close cooperation internally Climate Change &amp; Sustainability, Digital Birmingham, Property Servic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Chapter ‘ICT &amp; Energy Efficiency in the Roadmap’ with 6 actions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Energy data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Building management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Estate management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School premises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Wellbeing and fuel poverty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e3d2d"/>
                </a:solidFill>
                <a:latin typeface="Century Gothic"/>
              </a:rPr>
              <a:t>Intelligent energy infrastructure research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580080" y="765000"/>
            <a:ext cx="1663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Street Light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Amey – 25 strategic contract and partnership (PFI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Improving and maintaining Birmingham’s highway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2500 km of roa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&gt;850 highways structures and bridg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&lt; 100,000 street ligh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2010-15 accelerated improve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BA87-A5D9-410B-A8B8-73C5EF765806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F09-5F3B-4B31-BB5D-CEA28C8DF786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6599160" y="765000"/>
            <a:ext cx="1644840" cy="17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Home Logboo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An one-stop online place for social housing tenants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Supporting behaviour change and sustainable tenancies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Take responsibility for own home (payments, heating, ventilation, furnishings)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Work with Family Housing Association includes energy savings advice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Tenant training house offers information about electricity, gas and water usage, each room gives different advice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e3d2d"/>
                </a:solidFill>
                <a:latin typeface="Century Gothic"/>
              </a:rPr>
              <a:t>Direct and indirect carbon savings: landlords save on printed information and have more lasting tenancies, tenants change their behaviour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2CE-55F3-40EB-88F6-8030CD3EFA88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EB57-C59E-469F-A940-C9979E6E9D9F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6516720" y="1087560"/>
            <a:ext cx="1706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4c600"/>
                </a:solidFill>
                <a:latin typeface="Century Gothic"/>
              </a:rPr>
              <a:t>Smart Spa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Building Energy Manage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3 pilot sit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Training building professiona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3d2d"/>
                </a:solidFill>
                <a:latin typeface="Century Gothic"/>
              </a:rPr>
              <a:t>Informing building users through websit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D808-E57E-4535-89B0-435AD9442FBE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02F-5B9A-41B0-85E4-62625F016E7A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28926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3d2d"/>
                </a:solidFill>
                <a:latin typeface="Century Gothic"/>
              </a:rPr>
              <a:t>Thank yo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3d2d"/>
                </a:solidFill>
                <a:latin typeface="Century Gothic"/>
              </a:rPr>
              <a:t>Enjoy your Visit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D72-69BA-4D58-9CA8-C50CA5E605FE}" type="datetime3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575-9249-4658-A326-3EB2ABBFA8AB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2:10:51Z</dcterms:created>
  <dc:creator>Heike Schuster</dc:creator>
  <dc:description/>
  <dc:language>en-US</dc:language>
  <cp:lastModifiedBy>Nikki Spencer</cp:lastModifiedBy>
  <dcterms:modified xsi:type="dcterms:W3CDTF">2014-03-12T13:45:38Z</dcterms:modified>
  <cp:revision>16</cp:revision>
  <dc:subject/>
  <dc:title>Green Digital Charter Study Tour</dc:title>
</cp:coreProperties>
</file>