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8C9-4E3A-4902-A913-0DC3C7B2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0FF-9A38-4F50-8E11-09674A2A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2D3-9BE3-4CFD-B765-E2A32543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5F7-2E5B-40B0-8F5B-91D40DEC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08FA-5711-429B-8C6D-F601968E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EAD8-47F6-4ABD-8235-2BEA7895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421B-2EBC-4639-9265-670FF7FC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7E31-480A-4F27-BCAD-12DBD49B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DA1D-C7B6-452F-892E-06CF1120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D376-E5CD-4863-86E6-3B68F520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B61A-1AD3-46A1-8FEC-08DFB14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ECB-D166-4B66-8567-3E727EAB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3486-D6C6-448E-92C6-A2C5AA40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AB29-DA28-4C76-9CB2-AE0E4CDD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6FD4-B45A-4C3A-8313-0B5A9097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72B5-C533-4E34-ADBB-84578351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1D24-8065-42C6-8B89-520DB75A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F425F-E357-49C0-87C2-2893AFBC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41292-110D-4EAC-8DC9-1FC04EBC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24E8F-75C7-4457-8241-D1FCDF6F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2D9A2-9243-486F-837D-00424881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9E2C1-F5BB-4B6A-90CF-66322C22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FCE-ABB2-409C-B566-65EC0168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F7DB5-3A8E-4A31-9339-2976AA19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7C2AB-9935-4474-B967-EED45F18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8D18C-D094-4E59-BB3F-7A3A8EE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3DEBA-9441-4A30-BE25-BFFB5D98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0A86D-6CFE-453E-97F0-DE6DF1F3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F58E9-5722-4124-B1AF-728F9BF0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2E98C-A5E4-4D88-9275-E63929C4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27531-7265-4456-A2B6-E65B1603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ED608-0C7E-4AE4-B2E2-C8133945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27533-8DA2-4C1B-832B-2386A9B8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729-F570-4366-9BF1-D778B5D6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0775-382A-464C-9E13-7A1BA783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AAAB-D0F4-4B01-99E0-6B1BD96B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78883-05F3-4E95-895E-38483BCD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257B-0C6F-4E4C-B757-614DAF14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1648-E97C-49FA-92C8-9BD14E2B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5250E-0024-404C-91AE-E2301841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03183-5989-44BA-85B8-02919384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02FB-017D-472A-A44B-AB187803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6674-1678-4F0E-8E87-484877DC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0E2-B4E2-400B-A645-D9F5E7F4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6C9-4F27-4725-A79E-8B4C1361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D80-D516-4068-B95F-0EEF6819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CF4-2817-4B16-B30C-3B6BE20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76D-7017-48B9-B76A-01EA933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8A51-5CD2-4093-A5EA-A39DF782B042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10EF-C2FD-40AF-BE51-659E09FAB4B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7C1F-8C68-45EF-926F-079BFC819219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604C-6602-4FE5-A14F-9481E4741888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3035-1ECB-4198-A806-58F1E6649EAB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C983-A8C6-4D94-BFB6-8E5B76BA2E8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412E-D98F-44F9-83C8-DEC5A7334AB3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DF2-DFEC-490F-A21A-54951BC2AF8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c600"/>
                </a:solidFill>
                <a:latin typeface="Century Gothic"/>
              </a:rPr>
              <a:t>Green Digital Charter Study Tour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entury Gothic"/>
              </a:rPr>
              <a:t>Welcome to Birmingham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4738680" y="1165320"/>
            <a:ext cx="30020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7CEC-CC01-4B07-9636-34F62C9F34EF}" type="datetime3">
              <a:rPr b="0" lang="en-US" sz="24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4932360" y="5719680"/>
            <a:ext cx="320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Heike Schuster-James Program Manage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A68-92CD-4F05-8A6C-F4EBEABF7BB6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0" name="Picture 6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4036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379600" y="1700280"/>
            <a:ext cx="6008760" cy="31687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Smart City Birmingha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59280" y="2323800"/>
            <a:ext cx="47606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5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4902-CB2F-4169-986A-852105F65C35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5CF5-02FC-4C2E-9BDA-5B29B3A34D67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2144520" cy="2176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3"/>
          <a:stretch/>
        </p:blipFill>
        <p:spPr>
          <a:xfrm>
            <a:off x="1908000" y="4587840"/>
            <a:ext cx="2652840" cy="18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Green Digital Chart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16F-94AE-4A1D-BECB-F90217F1C717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06F8-9592-4C8C-84D2-6E216BE0E943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Birmingham co-developer and first wave signatory 2009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Close cooperation internally Climate Change &amp; Sustainability, Digital Birmingham, Property Servic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Chapter ‘ICT &amp; Energy Efficiency in the Roadmap’ with 6 actions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Energy data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Building management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Estate management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School premises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Wellbeing and fuel poverty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Intelligent energy infrastructure research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580080" y="765000"/>
            <a:ext cx="1663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Street Light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Amey – 25 strategic contract and partnership (PFI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Improving and maintaining Birmingham’s highway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2500 km of road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&gt;850 highways structures and bridg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&lt; 100,000 street ligh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2010-15 accelerated improvem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8783-DB3D-42D8-BF4D-1433FE7EB44B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889E-9864-4762-AA19-2B0FFC12AB1C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6599160" y="765000"/>
            <a:ext cx="1644840" cy="17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Home Logbook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An one-stop online place for social housing tenants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Supporting behaviour change and sustainable tenancies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Take responsibility for own home (payments, heating, ventilation, furnishings)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Work with Family Housing Association includes energy savings advice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Tenant training house offers information about electricity, gas and water usage, each room gives different advice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Direct and indirect carbon savings: landlords save on printed information and have more lasting tenancies, tenants change their behaviour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40B4-7A04-4EBC-8D70-971076818CF0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DE8B-28B0-4641-823F-F0609E11EE40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6516720" y="1087560"/>
            <a:ext cx="17064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Smart Spa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Building Energy Managem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3 pilot sit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Training building professiona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Informing building users through websit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0C5D-37C8-49E5-9D5D-DEDFA777FA25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8C24-D6C3-495E-9C75-0CF1A61CE678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28926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3d2d"/>
                </a:solidFill>
                <a:latin typeface="Century Gothic"/>
              </a:rPr>
              <a:t>Thank you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3d2d"/>
                </a:solidFill>
                <a:latin typeface="Century Gothic"/>
              </a:rPr>
              <a:t>Enjoy your Visit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FC4B-7EB9-4030-8C0F-68B44A6B553D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D162-3115-4A79-A539-3AF6B18A6EDF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2:10:51Z</dcterms:created>
  <dc:creator>Heike Schuster</dc:creator>
  <dc:description/>
  <dc:language>en-US</dc:language>
  <cp:lastModifiedBy>Nikki Spencer</cp:lastModifiedBy>
  <dcterms:modified xsi:type="dcterms:W3CDTF">2014-03-12T13:45:38Z</dcterms:modified>
  <cp:revision>16</cp:revision>
  <dc:subject/>
  <dc:title>Green Digital Charter Study Tour</dc:title>
</cp:coreProperties>
</file>